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288C-D1F2-4902-AF47-55C43474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844-44A7-49E3-B0E2-5E803B00F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8D5-1D4D-4E2C-9FF8-D3562328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5AF-FF6A-4876-B0B2-077CEE9B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7746D-9869-44CB-9B0D-052EE5CA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DD289-B536-4346-915A-5E5C3845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4257C-8FDF-40C1-838B-73A933D0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88FBF-89BE-4253-BC0F-D0B417D6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530F0-242F-42DF-BAE0-663A881D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0C57F-1D4E-41D2-97B4-3EC70E66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18BE2-4B67-43FB-809F-2BDA54FA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FF314-6508-4ACA-BB74-1046D8DA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95EB2-7514-4225-A1CF-723D2962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89877-E810-4DDE-A414-B10FFA9F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8CF-F5DC-48C4-BB03-9F39F8FD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40D65-2F8B-4485-AEDB-0AA6954F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823AB-92AD-4120-BFA3-639C0348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AF06E-E68D-48B7-95C5-9B2271EA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95CF0-2C2D-49CC-97B5-B53680E9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82001-D001-40B0-AE7B-7C931C71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66A81-BFEC-404C-921D-BA284688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5D04D-EDBC-45A8-8DBA-06FBABD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3B236-C508-4406-B4FE-4411D02C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09FC6-9702-4512-868A-F5E8120A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02F3A-FCA2-4B6A-8555-CF8D59EE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A78-635A-4D9A-A266-DCE9589D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4D952-7851-440F-85E8-2E58B2B0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8C59D-8CE3-416F-B9B9-C447B97F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721BE-E0A0-43D0-B0D0-A10DA45B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D703E-D0B2-4F8F-983D-3DAA6352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E6B0E-D050-4C57-939A-84245DC1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62668-2412-4768-AAAC-928DDD20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981A8-144E-47B4-95B6-7D4D598A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B2C92-A186-4548-A09F-857ECDA4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B3196-1920-4824-8DCF-77750EB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16709-949E-4CF6-9DE4-9EC92CE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8979-2B7B-48EC-B706-663FFAFE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8972D-9D04-4608-903E-734817BD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B5500-0468-492D-8BD9-5DFBA987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50975-7840-49BF-8173-6049ABCA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2C014-736C-42B5-9F46-F342A56C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FFC4E-10FB-4C08-B3D1-034046F0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1A8EA-A08E-43AD-8A6D-B9B7E3D6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5087C-EAAB-4E38-8DC7-BAEDC57F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93D88-F076-4C7F-8262-6C998412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8B285-11E0-45D9-867B-86AE7946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BF3AE-7AEE-4CC2-A9A6-481939E4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216C-38D5-4BBE-A9DC-89A6787D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421D7-CB7E-4CC1-8AB9-481E557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0041A-1804-4F0A-8DA4-B15253B3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4C246-E673-468C-86B4-BD4A4C5D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1BE9D-1ACE-40F1-B4CA-A2909F3B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F5E15-1A92-469B-B843-FD578716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B89D-7990-4A4A-95F4-C6A77554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E14B-96A9-4859-9988-FCE57225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E2D3-6DE7-4EF7-A3BD-540EE94E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0EC7-5FF8-466A-96EF-950C012E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9029-DDF0-40FC-B893-DB7BACD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AAA-09A3-4060-86E1-C1356380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578F-E331-408B-8060-0D595AFF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1267-E96F-4094-BDA7-FA0B074F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2231-085D-4A2B-B35D-80373FC9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E9A3-31B2-4F87-ABFD-412BE555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5033-BA26-44A9-9946-A92EA2EE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1E6EF-947D-42DC-97CE-96139CB9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E065-10D4-49C6-BB1B-692629AF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17CF-E575-40E7-AF4C-670A1F12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A379-C480-4EFA-989D-4911FF1D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57BE-6601-4A9B-A7FD-0FB7A4BD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559-A785-476A-AD80-5AE975A7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78BA-ADA4-4EDE-9BFB-898D766F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6B83-256C-4E45-BE74-C4D55BEB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288D-A0D0-4155-A267-5C8C4E60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AB70-FACF-4BB5-95CE-5E07E68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FE4B-077D-4FCB-A8A4-55B67FEE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4123-FD47-48AB-972B-E74D30E3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CCB0-EF3D-47AC-9A5A-1A431B96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D3D2-46C5-432F-891D-10A72953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32E7C-1863-4BED-BB8B-65DF52E4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2DE04-6E82-4B88-856A-B3E5492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C27-72D8-4B92-A542-DEB7AE89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FDA4-AD26-4776-9C92-726E9E03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A26D-191F-4CFD-B7EE-CEA04D3E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15D98-94AF-4B84-BFA3-23777CE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ECE4-4FCB-44A3-ACBC-DCAB0A0D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C00B1-FE56-4D2C-BAB9-EEDE5297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78D67-AD1E-4D29-A554-BB272F2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A1ACA-6438-433C-BA7C-B993306C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D737-6463-4166-B86F-9EC58DA6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0070C-7575-4A27-8718-47F8AAA0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8804-D35F-49D8-9EE2-48DB585E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889-EE11-4708-A9F7-B85CCFD6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EB567-7ED6-471D-8FF4-28B65DCF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4C295-DCB2-411F-99F1-A6C5B4D1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1555-2929-4FFD-9C47-A116048B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440CD-CACE-40C6-AE40-F52004CC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76D7-3B5D-4A4B-99FB-587B22C0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BD495-4A55-4794-AD05-53C6D92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2030-A7C8-410C-908B-DA42435C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01515-B6C8-41D8-8E1A-BDD71892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D138C-1A2F-4738-B70F-B775F579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A86D-F0D3-473B-A03D-F7D6038D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204-0CA6-416E-9180-C9833D00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964CF-B2C8-47FB-BFC3-04162318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5109B-5542-4134-A32F-47E0940D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050BA-66A5-4EF4-9960-6C3664F8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AC681-A508-4C0C-A3B1-9ED0DDB1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66CCD-2A6E-4D4E-ABEF-2E542B53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50E6-66EF-40A4-8BCB-8A516C03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76109-1939-4DA6-A6B1-F289F6E1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EDF9-151F-41B6-87E7-890AD132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EDF19-CFAC-4796-B9BD-2C7C35A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34CB3-D4A2-4D49-9FE4-455B1A00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1BD-8077-48BE-A019-996B2CE2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11EE9-59BD-47A4-815C-30D48B9B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3A3AA-5733-4871-8235-8F3E2C4E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EEC51-1CC8-413B-BBE4-9258500F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CD480-6072-4B8C-B556-4CD94A18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DEA2D-A2BD-4FA6-B6FC-057F6D4F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0B41F-8E27-4979-BF8A-4B969E7C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6E9C9-F010-41F1-A6AE-AF5CEC59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0A285-0A8D-4648-A4DC-6A07C191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2CD7D-A028-468D-9609-DE4268C7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8C62F-35C6-493F-B565-ADD2BE9A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DBE-18D6-404D-811B-1712703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8F4B3-C4B2-4E79-8CFD-C8BB3DE3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6B9E0-FB46-4587-ADB8-6FF1758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FB5E8-6222-4CDC-8E98-4836AFFD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4CFAA-86C0-45A1-B222-10FAC29E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05130-69AA-4BD9-93E0-80B14B2E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24AAF-04F0-4A10-A426-6043B5E3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76C88-C2FA-427C-9A61-F1B0BAE1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06F18-2BF9-4E16-A5D5-3C386A2F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9B00A-9A49-4337-B111-7E7B6745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E6181-76C5-4F32-9E9C-22048353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EDA-FC64-48E1-A53D-23A25973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F3C13-5B73-4957-8156-E42CADB9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B1F4F-28BE-4FAD-B2FF-89F43802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CB722-244F-4897-BBD3-2F90C62C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3A631-A0D6-4D6F-B573-8449C241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1F213-161C-43AB-987C-0CB70F4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11DD8-18E2-4802-A253-10C8343B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1D74F-F33C-4E3C-93E6-C47C6FCF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FDEF7-FE00-4D30-9401-81D6D4B4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234A6-2AA7-44A1-BD92-AFAD6C09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8885F-836D-472F-AEB1-F8B53ABF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6275-162B-44E2-AED7-1C911C2E34F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7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52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FD85-A1A9-470E-B213-48BF857C4A6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00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0FA7-8D5A-4975-AAF7-98BA3A197BD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8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F0B-1B0B-43BF-A12E-46696734F3E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BBBF-0724-4010-9BCE-048B9B523FE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3218-A397-4CF3-A5DB-D0BA07AA335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1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8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1520-AE96-4A69-98BA-1B258163039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5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F95E-8206-4433-BD2D-78137039DE4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53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AE41-413C-453F-A9C6-2984FB85390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01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7C68-46C7-436E-B8C9-48D4C3647BC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49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EFA2-D2FB-406C-A1C0-1B4D6A1F5F0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99" name="Donut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90C1-7258-4CF9-9B44-9CF90A2E929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ການສຳຫຼວດດັດສະນີໝາຍສັງຄົມລາວ</a:t>
            </a:r>
            <a:r>
              <a:rPr b="1" lang="en-US" sz="3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Saysettha OT"/>
                <a:ea typeface="Saysettha OT"/>
              </a:rPr>
              <a:t>(LSIS)</a:t>
            </a:r>
            <a:br>
              <a:rPr sz="3200"/>
            </a:br>
            <a:r>
              <a:rPr b="1" lang="lo-LA" sz="29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ອົບຮົມນັກເດີນສຳຫຼວດ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142640" y="38095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ສອບຖາມສຳລັບເດັກອາຍຸຕ່ຳກວ່າ</a:t>
            </a:r>
            <a:r>
              <a:rPr b="0" lang="lo-LA" sz="10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lo-LA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5</a:t>
            </a:r>
            <a:r>
              <a:rPr b="0" lang="lo-LA" sz="9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</a:t>
            </a:r>
            <a:r>
              <a:rPr b="0" lang="en-US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ປຽບທຽບທາງດ້ານຮ່າງກາຍ</a:t>
            </a:r>
            <a:r>
              <a:rPr b="1" lang="en-US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(Anthropometry)</a:t>
            </a:r>
            <a:r>
              <a:rPr b="1" lang="en-US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Rectangle 17"/>
          <p:cNvSpPr/>
          <p:nvPr/>
        </p:nvSpPr>
        <p:spPr>
          <a:xfrm>
            <a:off x="609480" y="32767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ປຽບທຽບທາງດ້ານຮ່າງກາຍ 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106668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ວັດຖຸປະສົ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ະເມີນຄວາມຊຸກສຸມຂອງການຂາດສານອາຫານ 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 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ນເດັກອາຍຸຕ່ຳກວ່າ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5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ປົ້າໝາຍວັດແທ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ດັກອາຍຸຕ່ຳກວ່າ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5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 ທັງໝົ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ເກັບລວບລວມຂໍ້ມູ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ຕ່ຈະຕ້ອງມີ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2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ຄົນ ທີ່ໄດ້ຜ່ານການອົບຮົມ ຮັບຜິດໃນການວັດແທກ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ຜູ້ວັດແທກ ແລະ ຜູ້ຊ່ວຍວັດແທກ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ອຸປະກອນ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11430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ຊິງຊັ່ງນ້ຳໜັກ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ຊິງ ອິເລັກໂທນິກ</a:t>
            </a:r>
            <a:r>
              <a:rPr b="0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າມາດຊັ່ງນ້ຳນັກໄດ້ເຖິງ </a:t>
            </a:r>
            <a:r>
              <a:rPr b="0" lang="en-GB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150 </a:t>
            </a: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ິໂ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(1 </a:t>
            </a: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ໜ່ວຍ</a:t>
            </a:r>
            <a:r>
              <a:rPr b="0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ທີມ</a:t>
            </a:r>
            <a:r>
              <a:rPr b="0" lang="lo-LA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ະດານວັດແທກລວງຍາວ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1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ງສູງ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ະດານໄມ້ວັດແທກ</a:t>
            </a:r>
            <a:r>
              <a:rPr b="0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ຄວາມຍາວ </a:t>
            </a:r>
            <a:r>
              <a:rPr b="0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130 </a:t>
            </a: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ຊັງຕີແມ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(1 </a:t>
            </a: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ໜ່ວຍ</a:t>
            </a:r>
            <a:r>
              <a:rPr b="0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ທີມ</a:t>
            </a:r>
            <a:r>
              <a:rPr b="0" lang="lo-LA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ອຸປະກອນໃນການບັນທຶກ</a:t>
            </a:r>
            <a:r>
              <a:rPr b="1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4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ບິ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4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ຟອມບັນທຶ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ຂັ້ນຕອນການຊັ່ງນ້ຳໜັກ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685800" y="114300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ະກຽມສະຖານທີ ທີ່ເໝາະສົມ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ີແສງສະຫວ່າງພຽງພໍ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ພື້ນພຽງ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ຫ້ງ ແລະ ແຂງ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ະກຽມຊິງຊັ່ງ</a:t>
            </a:r>
            <a:r>
              <a:rPr b="0" lang="lo-LA" sz="12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ປະໄວປະມານ</a:t>
            </a:r>
            <a:r>
              <a:rPr b="0" lang="lo-LA" sz="1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15</a:t>
            </a:r>
            <a:r>
              <a:rPr b="0" lang="en-US" sz="1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າທີ</a:t>
            </a:r>
            <a:r>
              <a:rPr b="0" lang="lo-LA" sz="1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່ອນເລີ່ມຊັ່ງນ້ຳໜັ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ະກຽມເດັກ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ອດເຄື່ອງນຸ່ງທີ່ໜາ ແລະໜັກອອກ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ົດເກີບ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ປີດຊິງຊັ່ງຈົນມັນສະແດງ </a:t>
            </a:r>
            <a:r>
              <a:rPr b="0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00.0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ຢູ່ໜ້າຈ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ຊັ່ງນ້ຳໜັກເດັ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ເດັກບໍ່ສາມາດຢືນໄດ້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ຊັ່ງນ້ຳໜັກໂດຍໃຫ້ແມ່</a:t>
            </a:r>
            <a:r>
              <a:rPr b="0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ຜູ້ດູແລອູ້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ເດັກສາມາດຢືນໄດ້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ໍ່ໃຫ້ຢືນຕາມຮອຍຕີນທີ່ມີຢູ່ເທິງຊິ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ຜູ້ວັດແທກຮ້ອງບອກຜູ້ຊ່ວຍ ຕາມຕົວເລກ ເພື່ອບັນທຶກໃສ່ໃນແບບຟອມ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 ຜູ້ຊ່ວຍເວົ້າຄືນຕົວເລກທີ່ໄດ້ບັນທຶ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8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ວັດແທກລວງສູງ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990720" y="182880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ວັດແທກລວງຍາວ ແລະ ລວງສູ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285840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ອນແທກ</a:t>
            </a:r>
            <a:r>
              <a:rPr b="0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: </a:t>
            </a:r>
            <a:r>
              <a:rPr b="0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ດັກອາຍຸ</a:t>
            </a:r>
            <a:r>
              <a:rPr b="0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ຕ່ຳກວ່າ </a:t>
            </a:r>
            <a:r>
              <a:rPr b="0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2 </a:t>
            </a:r>
            <a:r>
              <a:rPr b="0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285840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ຢືນແທກ</a:t>
            </a:r>
            <a:r>
              <a:rPr b="0" lang="lo-LA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: </a:t>
            </a:r>
            <a:r>
              <a:rPr b="0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ດັກອາຍຸ </a:t>
            </a:r>
            <a:r>
              <a:rPr b="0" lang="lo-LA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2 </a:t>
            </a:r>
            <a:r>
              <a:rPr b="0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 ຂຶ້ນໄ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285840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ຂັ້ນຕອນການວັດແທກລວງສູງ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14400" y="1295280"/>
            <a:ext cx="79246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ະກຽມສະຖານທີ ທີ່ເໝາະສົມ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ີແສງສະຫວ່າງພຽງພໍ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ພື້ນພຽງ ແຫ້ງ ແລະແຂງ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 ຝາ ຫລື ເສົາ ສຳລັບອີງກະດານວັດແທກ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ເດັກມັດຜົມ ຫລື ເກົ້າຜົມ ທີ່ມີຜົນການວັດແທກລວງສູງ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ໍ່ຕ້ອງໄດ້ແກ້ອອກກ່ອນວັດແທ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ເດັກປົດເກີ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ຈັດທ່າເດັກໃສ່ໃນກະດານວັດແທກໃຫ້ຖືກຕ້ອ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ວັດແທກ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ຖືກຕ້ອງຕາມຄູ່ມື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ເລີ່ມແທກເດັກທີ່ຜູ້ໃຫຍ່ກວ່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ຜູ້ວັດແທກຮ້ອງບອກຜູ້ຊ່ວຍ ຕາມຕົວເລກ ເພື່ອບັນທຶກໃສ່ໃນແບບຟອມ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 ຜູ້ຊ່ວຍເວົ້າຄືນຕົວເລກທີ່ໄດ້ບັນທຶ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5" descr=""/>
          <p:cNvPicPr/>
          <p:nvPr/>
        </p:nvPicPr>
        <p:blipFill>
          <a:blip r:embed="rId1"/>
          <a:srcRect l="0" t="2980" r="2779" b="3804"/>
          <a:stretch/>
        </p:blipFill>
        <p:spPr>
          <a:xfrm>
            <a:off x="3166920" y="76320"/>
            <a:ext cx="5748480" cy="670536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ວັດແທກລວງສູງ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"/>
          <p:cNvPicPr/>
          <p:nvPr/>
        </p:nvPicPr>
        <p:blipFill>
          <a:blip r:embed="rId1"/>
          <a:srcRect l="0" t="0" r="0" b="1661"/>
          <a:stretch/>
        </p:blipFill>
        <p:spPr>
          <a:xfrm>
            <a:off x="3276720" y="152280"/>
            <a:ext cx="5638680" cy="659448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2971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ວັດແທກ</a:t>
            </a:r>
            <a:br>
              <a:rPr sz="3600"/>
            </a:br>
            <a:r>
              <a:rPr b="1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ງຍາວ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ຈຸດທີ່ຄວນເອົາໃຈໃສ່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20000"/>
              </a:lnSpc>
              <a:spcBef>
                <a:spcPts val="1800"/>
              </a:spcBef>
              <a:buClr>
                <a:srgbClr val="002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ຮັດການວັດແທກ ຫຼັງຈາກສຳເລັດການສຳພາດ ແບບຟອມສຳລັບເດັກອາຍຸຕ່ຳກວ່າ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5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1800"/>
              </a:spcBef>
              <a:buClr>
                <a:srgbClr val="002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ະກຽມສະຖານທີ່ໃຫ້ເໝາະສົມ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1800"/>
              </a:spcBef>
              <a:buClr>
                <a:srgbClr val="002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ວດກາອຸປະກອນຮັບໃຊ້ກ່ອນການວັດແທກ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1800"/>
              </a:spcBef>
              <a:buClr>
                <a:srgbClr val="002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ເດັກມີຄວາມຜິດປົກກະຕິທາງດ້ານຮ່າງກາຍ ທີ່ມີຜົນຕໍ່ການວັດແທກລວງສູງ ເຊັ່ນຂາພິການ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ບໍ່ໃຫ້ບັນທຶກໃສ່ໃນແບບຟອມ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ຕ່ໃຫ້ຂີດອ້ອມ 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‘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6</a:t>
            </a:r>
            <a:r>
              <a:rPr b="0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’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0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ບັນທຶກເຫດຜົນໃສ່ບ່ອນວ່າ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ຈຸດທີ່ຄວນເອົາໃຈໃສ່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091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2a6d7d"/>
                </a:solidFill>
                <a:latin typeface="Saysettha OT"/>
                <a:cs typeface="Saysettha OT"/>
              </a:rPr>
              <a:t>ການວັດແທກທີ່ຖືກຕ້ອງ ແມ່ນ ບັນຫາສຳຄັນໃນການເກັບລວບລວມຂໍ້ມູ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2a6d7d"/>
                </a:solidFill>
                <a:latin typeface="Saysettha OT"/>
                <a:cs typeface="Saysettha OT"/>
              </a:rPr>
              <a:t>ລວງຍາວ</a:t>
            </a:r>
            <a:r>
              <a:rPr b="0" lang="en-US" sz="2800" spc="-1" strike="noStrike">
                <a:solidFill>
                  <a:srgbClr val="2a6d7d"/>
                </a:solidFill>
                <a:latin typeface="Saysettha OT"/>
                <a:ea typeface="Saysettha OT"/>
              </a:rPr>
              <a:t>/</a:t>
            </a:r>
            <a:r>
              <a:rPr b="0" lang="lo-LA" sz="2800" spc="-1" strike="noStrike">
                <a:solidFill>
                  <a:srgbClr val="2a6d7d"/>
                </a:solidFill>
                <a:latin typeface="Saysettha OT"/>
                <a:cs typeface="Saysettha OT"/>
              </a:rPr>
              <a:t>ລວງສູງຂອງເດັກ ຄວນວັດແທກໃຫ້ໃກ້ທີ່ສຸດ</a:t>
            </a:r>
            <a:r>
              <a:rPr b="0" lang="en-US" sz="2800" spc="-1" strike="noStrike">
                <a:solidFill>
                  <a:srgbClr val="2a6d7d"/>
                </a:solidFill>
                <a:latin typeface="Saysettha OT"/>
                <a:ea typeface="Saysettha OT"/>
              </a:rPr>
              <a:t>  </a:t>
            </a:r>
            <a:r>
              <a:rPr b="0" lang="en-US" sz="2800" spc="-1" strike="noStrike">
                <a:solidFill>
                  <a:srgbClr val="2a6d7d"/>
                </a:solidFill>
                <a:latin typeface="Saysettha OT"/>
                <a:ea typeface="Saysettha OT"/>
              </a:rPr>
              <a:t>0.1 </a:t>
            </a:r>
            <a:r>
              <a:rPr b="0" lang="lo-LA" sz="2800" spc="-1" strike="noStrike">
                <a:solidFill>
                  <a:srgbClr val="2a6d7d"/>
                </a:solidFill>
                <a:latin typeface="Saysettha OT"/>
                <a:cs typeface="Saysettha OT"/>
              </a:rPr>
              <a:t>ຊັງຕີແມດ</a:t>
            </a:r>
            <a:r>
              <a:rPr b="0" lang="lo-LA" sz="2800" spc="-1" strike="noStrike">
                <a:solidFill>
                  <a:srgbClr val="2a6d7d"/>
                </a:solidFill>
                <a:latin typeface="Saysettha OT"/>
                <a:ea typeface="Saysettha OT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2a6d7d"/>
                </a:solidFill>
                <a:latin typeface="Saysettha OT"/>
                <a:cs typeface="Saysettha OT"/>
              </a:rPr>
              <a:t>ມີຄວາມຈຳເປັນຕ້ອງໄດ້ອ່ານຄູ່ມືຢ່າງລະອຽດ ເພື່ອໃຫ້</a:t>
            </a:r>
            <a:r>
              <a:rPr b="0" lang="en-US" sz="2800" spc="-1" strike="noStrike">
                <a:solidFill>
                  <a:srgbClr val="2a6d7d"/>
                </a:solidFill>
                <a:latin typeface="Saysettha OT"/>
                <a:ea typeface="Saysettha OT"/>
              </a:rPr>
              <a:t> </a:t>
            </a:r>
            <a:r>
              <a:rPr b="0" lang="lo-LA" sz="2800" spc="-1" strike="noStrike">
                <a:solidFill>
                  <a:srgbClr val="2a6d7d"/>
                </a:solidFill>
                <a:latin typeface="Saysettha OT"/>
                <a:cs typeface="Saysettha OT"/>
              </a:rPr>
              <a:t>ເຂົ້າໃຈວິທີ</a:t>
            </a:r>
            <a:r>
              <a:rPr b="0" lang="en-US" sz="2800" spc="-1" strike="noStrike">
                <a:solidFill>
                  <a:srgbClr val="2a6d7d"/>
                </a:solidFill>
                <a:latin typeface="Saysettha OT"/>
                <a:ea typeface="Saysettha OT"/>
              </a:rPr>
              <a:t> </a:t>
            </a:r>
            <a:r>
              <a:rPr b="0" lang="lo-LA" sz="2800" spc="-1" strike="noStrike">
                <a:solidFill>
                  <a:srgbClr val="2a6d7d"/>
                </a:solidFill>
                <a:latin typeface="Saysettha OT"/>
                <a:cs typeface="Saysettha OT"/>
              </a:rPr>
              <a:t>ການວັດແທກຢ່າງມີປະສິດທິພາ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10000"/>
              </a:lnSpc>
              <a:spcBef>
                <a:spcPts val="1199"/>
              </a:spcBef>
              <a:buClr>
                <a:srgbClr val="00206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2a6d7d"/>
                </a:solidFill>
                <a:latin typeface="Saysettha OT"/>
                <a:cs typeface="Saysettha OT"/>
              </a:rPr>
              <a:t>ແຕ່ລະທີມຄວນມີ ນ້ຳຢາທຳຄວາມສະອາດ ແລະ ເຈ້ຍເຊັດ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3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ກວດເບິ່ງການບວມ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ບວມແມ່ນການສະສົມນ້ຳຢູ່ໃນແພຈຸລັງໃນຮ່າງກາຍ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ອາການບວມທັງສອງຂ້າງ ເອີ້ນວ່າອາການຂອງ </a:t>
            </a:r>
            <a:r>
              <a:rPr b="0" lang="en-US" sz="2200" spc="-1" strike="noStrike">
                <a:solidFill>
                  <a:srgbClr val="000000"/>
                </a:solidFill>
                <a:latin typeface="Saysettha OT"/>
                <a:ea typeface="Saysettha OT"/>
              </a:rPr>
              <a:t>kwashiorkor, </a:t>
            </a:r>
            <a:r>
              <a:rPr b="0" lang="lo-LA" sz="2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ຊື່ງແມ່ນຮູບແບບທີ່ຮ້າຍແຮງນຶ່ງ ຂອງການຂາດສານອາຫານຮຸນແຮງ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2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ວິທີການກວດກາ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19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ຫ້ເດັກປົດເກີບ ແລະ ຖອດຖົງເທົ້າ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19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ເດັກໃຫຍ່ໃຫ້ນັ່ງຕັ່ງປິ່ນໜ້າຫາຜູ້ກວດ</a:t>
            </a:r>
            <a:r>
              <a:rPr b="0" lang="lo-LA" sz="1900" spc="-1" strike="noStrike">
                <a:solidFill>
                  <a:srgbClr val="000000"/>
                </a:solidFill>
                <a:latin typeface="Saysettha OT"/>
                <a:ea typeface="Saysettha OT"/>
              </a:rPr>
              <a:t>,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19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ແມ່ນເດັກອ່ອນໃຫ້ແມ່ ຫລື ຜູ້ດູແລອູ້ມປິ່ນໜ້າຫາຜູ້ກວດ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19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ຫ້ຜູ້ກວດໃຊ້ຫົວໂປ້ມື ກົດໃສ່ເທິງຫຼັງຕີນຂອງເດັກທັງສອງເບື້ອງ ຄ້າງໄວປະມານ </a:t>
            </a:r>
            <a:r>
              <a:rPr b="0" lang="lo-LA" sz="1900" spc="-1" strike="noStrike">
                <a:solidFill>
                  <a:srgbClr val="000000"/>
                </a:solidFill>
                <a:latin typeface="Saysettha OT"/>
                <a:ea typeface="Saysettha OT"/>
              </a:rPr>
              <a:t>3 </a:t>
            </a:r>
            <a:r>
              <a:rPr b="0" lang="lo-LA" sz="19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ວິນາທີ </a:t>
            </a:r>
            <a:r>
              <a:rPr b="0" lang="lo-LA" sz="1900" spc="-1" strike="noStrike">
                <a:solidFill>
                  <a:srgbClr val="000000"/>
                </a:solidFill>
                <a:latin typeface="Saysettha OT"/>
                <a:ea typeface="Saysettha OT"/>
              </a:rPr>
              <a:t>(</a:t>
            </a:r>
            <a:r>
              <a:rPr b="0" lang="lo-LA" sz="19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ນັບ</a:t>
            </a:r>
            <a:r>
              <a:rPr b="0" lang="en-US" sz="19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aysettha OT"/>
                <a:ea typeface="Saysettha OT"/>
              </a:rPr>
              <a:t>1001, 1002, 1003</a:t>
            </a:r>
            <a:r>
              <a:rPr b="0" lang="lo-LA" sz="1900" spc="-1" strike="noStrike">
                <a:solidFill>
                  <a:srgbClr val="000000"/>
                </a:solidFill>
                <a:latin typeface="Saysettha OT"/>
                <a:ea typeface="Saysettha OT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0" lang="lo-LA" sz="19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ລ້ວປ່ອຍ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19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ຖ້າມີຮອຍບຸມຢູ່ເທິງຫຼັງຕີນສະແດງວ່າ ມີອາການບວມ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43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ນື້ອໃນທີ່ຈະສະເໜ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990720" y="1447560"/>
            <a:ext cx="7943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ຄວາມເປັນມາຂອງການປຽບທຽບທາງດ້ານຮ່າງກາຍ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ບັນດາຂໍ້ມູນ ແລະ ດັດສະນີ ທີ່ນຳໃຊ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ວັດຖຸປະສົງ ແລະ ເປົ້າໝາຍ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ອຸປະກອ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ຂັ້ນຕອນໃນການວັດແທກ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ຈຸດທີ່ຄວນເອົາໃຈໃສ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ກວດຫາການບວມ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ທົດສອບມາດຖານໃນການວັດແທກ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5543640" y="6305400"/>
            <a:ext cx="306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Saysettha OT"/>
                <a:ea typeface="Saysettha OT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ຕົວຢ່າງຂອງ ການເປັນບວມ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405320" cy="2232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" descr=""/>
          <p:cNvPicPr/>
          <p:nvPr/>
        </p:nvPicPr>
        <p:blipFill>
          <a:blip r:embed="rId2"/>
          <a:stretch/>
        </p:blipFill>
        <p:spPr>
          <a:xfrm>
            <a:off x="457200" y="3900600"/>
            <a:ext cx="3987720" cy="2881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"/>
          <p:cNvPicPr/>
          <p:nvPr/>
        </p:nvPicPr>
        <p:blipFill>
          <a:blip r:embed="rId3"/>
          <a:stretch/>
        </p:blipFill>
        <p:spPr>
          <a:xfrm>
            <a:off x="4648320" y="3900600"/>
            <a:ext cx="40478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1143000" y="8380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າຍລະອຽດ</a:t>
            </a:r>
            <a:r>
              <a:rPr b="1" lang="en-US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</a:t>
            </a:r>
            <a:r>
              <a:rPr b="1" lang="en-US" sz="40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ວິທີການຈົດກ່າຍໃສ່ແບບສອບຖາ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ight Arrow 5"/>
          <p:cNvSpPr/>
          <p:nvPr/>
        </p:nvSpPr>
        <p:spPr>
          <a:xfrm>
            <a:off x="2895480" y="2819520"/>
            <a:ext cx="2667240" cy="17524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3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ຄວາມເປັນມາ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49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24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ປຽນແປງຂະໜາດຂອງຮ່າງກາຍສ່ອງແສງເຖິງ ສຸຂະພາບ ແລະ ຄວາມຢູ່ດີມີສຸກຂອງບຸກຄົນ ແລະປະຊາຊົ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24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ປຽບທຽບທາງດ້ານຮ່າງກາຍ ແມ່ນຖືກນຳໃຊ້ເພື່ອປະເມີນການເຕີບໂຕຂອງຮ່າງກາຍ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ະພາບສຸຂະພາບ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ການກິນຢູ່ຂອງບຸກຄົນ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 ສ່ອງແສງເຖິງການເຕີບໂຕຂອງເສດຖະກິດ ແລະການເປັນຢູ່ທາງສັງຄົມ ຂອງປະຊາຊົ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24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ປຽບທຽບທາງດ້ານຮ່າງກາຍ ນຳໃຊ້ຢ່າງກວ້າງຂວາງ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ໂດຍທົ່ວໄປໃຊ້ປະເມີນ ສະພາບໂພຊະນາການຂອງບກຄົນ ຫລື ກຸ່ມປະຊາກອນ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. 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ປັນວິທີການ ທີ່ງ່າຍ ແລະບໍ່ແພງ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Saysettha OT"/>
                <a:ea typeface="Saysettha OT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ບັນດາຂໍ້ມູນ ທ່ີຈຳເປັນໃຊ້ໃນການປຽບທຽບທາງດ້ານຮ່າງກາຍ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7480" indent="-314280">
              <a:lnSpc>
                <a:spcPct val="14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ອາຍຸ 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ປັນເດືອນ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17480" indent="-314280">
              <a:lnSpc>
                <a:spcPct val="14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ພດ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17480" indent="-314280">
              <a:lnSpc>
                <a:spcPct val="14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້ຳໜັກ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17480" indent="-314280">
              <a:lnSpc>
                <a:spcPct val="14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ງຍາວ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ງສູງ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61920" indent="-314280">
              <a:lnSpc>
                <a:spcPct val="140000"/>
              </a:lnSpc>
              <a:spcBef>
                <a:spcPts val="1800"/>
              </a:spcBef>
              <a:buClr>
                <a:srgbClr val="feb8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ດັກອາຍຸຕ່ຳກວ່າ </a:t>
            </a:r>
            <a:r>
              <a:rPr b="1" lang="en-US" sz="2200" spc="-1" strike="noStrike">
                <a:solidFill>
                  <a:srgbClr val="002060"/>
                </a:solidFill>
                <a:latin typeface="Saysettha OT"/>
                <a:ea typeface="Saysettha OT"/>
              </a:rPr>
              <a:t>2 </a:t>
            </a:r>
            <a:r>
              <a:rPr b="1" lang="en-US" sz="2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</a:t>
            </a:r>
            <a:r>
              <a:rPr b="1" lang="en-US" sz="22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ອີ້ນ</a:t>
            </a:r>
            <a:r>
              <a:rPr b="1" lang="en-US" sz="2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ວ່າລວງຍາວ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961920" indent="-314280">
              <a:lnSpc>
                <a:spcPct val="140000"/>
              </a:lnSpc>
              <a:spcBef>
                <a:spcPts val="1800"/>
              </a:spcBef>
              <a:buClr>
                <a:srgbClr val="feb8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ດັກອາຍຸຫລາຍກວ່າ </a:t>
            </a:r>
            <a:r>
              <a:rPr b="1" lang="en-US" sz="2200" spc="-1" strike="noStrike">
                <a:solidFill>
                  <a:srgbClr val="002060"/>
                </a:solidFill>
                <a:latin typeface="Saysettha OT"/>
                <a:ea typeface="Saysettha OT"/>
              </a:rPr>
              <a:t>2 </a:t>
            </a:r>
            <a:r>
              <a:rPr b="1" lang="en-US" sz="2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ີ</a:t>
            </a:r>
            <a:r>
              <a:rPr b="1" lang="en-US" sz="22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ອີ້ນ</a:t>
            </a:r>
            <a:r>
              <a:rPr b="1" lang="en-US" sz="2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ວ່າລວງສູງ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ບັນດາດັດສະນີ ໃນການປຽບທຽບ</a:t>
            </a:r>
            <a:br>
              <a:rPr sz="3600"/>
            </a:br>
            <a:r>
              <a:rPr b="1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ທາງດ້ານຮ່າງກາຍ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1143000" y="2057400"/>
            <a:ext cx="792468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6400" indent="-403200">
              <a:lnSpc>
                <a:spcPct val="15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້ຳໜັກຕໍ່ອາຍຸ </a:t>
            </a:r>
            <a:r>
              <a:rPr b="1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(Weight-for-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403200">
              <a:lnSpc>
                <a:spcPct val="15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ງຍາວຕໍ່ອາຍຸ ຫລື ລວງສູງຕໍ່ອາຍຸ  </a:t>
            </a:r>
            <a:r>
              <a:rPr b="1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(Length-for-age or Height-for-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403200">
              <a:lnSpc>
                <a:spcPct val="15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ງຍາວຕໍ່ອາຍຸ  ຫລື ລວງສູງຕໍ່ອາຍຸ  </a:t>
            </a:r>
            <a:r>
              <a:rPr b="1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(Length-for-age or Height-for-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403200">
              <a:lnSpc>
                <a:spcPct val="15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403200">
              <a:lnSpc>
                <a:spcPct val="15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403200">
              <a:lnSpc>
                <a:spcPct val="15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403200">
              <a:lnSpc>
                <a:spcPct val="15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403200">
              <a:lnSpc>
                <a:spcPct val="150000"/>
              </a:lnSpc>
              <a:spcBef>
                <a:spcPts val="18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1143000" y="4572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ດັດສະນີ</a:t>
            </a:r>
            <a:r>
              <a:rPr b="1" lang="lo-LA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ທີ່ສະທ້ອນເຖີງນ້ຳໜັກຕໍ່ອາຍ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(Weight-for-a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76212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ດັດສະນີ</a:t>
            </a:r>
            <a:r>
              <a:rPr b="1" lang="lo-LA" sz="30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້ຳໜັກຕໍ່ອາຍຸ ຕ່ຳ ຖືວ່າແມ່ນສະພາບຂອງນ້ຳໜັກຫລຸດ 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ea typeface="Saysettha OT"/>
              </a:rPr>
              <a:t>(Underweight), 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ຳລັບອາຍຸສະເພາະໃດໜຶ່ງ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2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ປະໂຫຍດຂອງດັດສະນີນີ້ ແມ່ນມັນສະທ້ອນເຖິງ</a:t>
            </a:r>
            <a:r>
              <a:rPr b="1" lang="lo-LA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ຂາດສານອາຫານ 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ທັງໃນໄລຍະ</a:t>
            </a:r>
            <a:r>
              <a:rPr b="1" lang="lo-LA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ຍາວ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ຊຳເຮື້ອ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ea typeface="Saysettha OT"/>
              </a:rPr>
              <a:t>) 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ລະ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ຫລື </a:t>
            </a:r>
            <a:r>
              <a:rPr b="1" lang="lo-LA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ໄລຍະສັ້ນ 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ea typeface="Saysettha OT"/>
              </a:rPr>
              <a:t>(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ຮຸນແຮງ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ea typeface="Saysettha OT"/>
              </a:rPr>
              <a:t>), </a:t>
            </a:r>
            <a:r>
              <a:rPr b="1" lang="lo-LA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ຖິງຢ່າງໃດກໍ່ຕາມ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ມັນບໍ່ສາມາດຈະຈຳແນກ</a:t>
            </a:r>
            <a:r>
              <a:rPr b="1" lang="lo-LA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ໄດ້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ະຫວ່າງທັງສອງ</a:t>
            </a:r>
            <a:r>
              <a:rPr b="1" lang="lo-LA" sz="3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ດັ່ງກ່າວ</a:t>
            </a:r>
            <a:r>
              <a:rPr b="1" lang="en-US" sz="3000" spc="-1" strike="noStrike">
                <a:solidFill>
                  <a:srgbClr val="002060"/>
                </a:solidFill>
                <a:latin typeface="Saysettha OT"/>
                <a:ea typeface="Saysettha OT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14400" y="380880"/>
            <a:ext cx="8229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ດັດສະນີ</a:t>
            </a:r>
            <a:r>
              <a:rPr b="1" lang="lo-LA" sz="34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en-US" sz="3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ທີ່ສະທ້ອນເຖີງລວງຍາວ</a:t>
            </a:r>
            <a:r>
              <a:rPr b="1" lang="en-US" sz="34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1" lang="en-US" sz="3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ງສູງຕໍ່ອາຍຸ </a:t>
            </a:r>
            <a:r>
              <a:rPr b="1" lang="en-US" sz="3400" spc="-1" strike="noStrike">
                <a:solidFill>
                  <a:srgbClr val="002060"/>
                </a:solidFill>
                <a:latin typeface="Saysettha OT"/>
                <a:ea typeface="Saysettha OT"/>
              </a:rPr>
              <a:t>(Height-for-age / Length-for-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2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ດັດສະນີລວງສູງຕໍ່ອາຍຸຕ່ຳ ຖືວ່າແມ່ນສະພາບການຂາດສານອາຫານໃນໄລຍະ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ຍາວ</a:t>
            </a:r>
            <a:r>
              <a:rPr b="1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 ຫລື ຊຳເຮື້ອ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ຂາດສານອາຫານແບບເຕ້ຍ </a:t>
            </a:r>
            <a:r>
              <a:rPr b="1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(Stunt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ບໍ່ສາມາດວັດ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ທກ</a:t>
            </a:r>
            <a:r>
              <a:rPr b="1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ຂາດສານອາຫານໃນໄລຍະສັ້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ຕົວ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ຊີ້ວັດທີ່</a:t>
            </a:r>
            <a:r>
              <a:rPr b="1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ຳຄັນສຸດ</a:t>
            </a:r>
            <a:r>
              <a:rPr b="1" lang="lo-LA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ຳລັບ </a:t>
            </a:r>
            <a:r>
              <a:rPr b="1" lang="en-US" sz="2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ໂຄງການ </a:t>
            </a:r>
            <a:r>
              <a:rPr b="1" lang="en-US" sz="2800" spc="-1" strike="noStrike">
                <a:solidFill>
                  <a:srgbClr val="002060"/>
                </a:solidFill>
                <a:latin typeface="Saysettha OT"/>
                <a:ea typeface="Saysettha OT"/>
              </a:rPr>
              <a:t>Maternal Young Child Nutrition Security Initiative Assessment (MYCNSIA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990720" y="380880"/>
            <a:ext cx="8229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ດັດສະນີ</a:t>
            </a:r>
            <a:r>
              <a:rPr b="1" lang="lo-LA" sz="18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ທີ່ສະທ້ອນເຖີງ</a:t>
            </a:r>
            <a:r>
              <a:rPr b="1" lang="en-US" sz="20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lo-LA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້ຳໜັກ</a:t>
            </a:r>
            <a:r>
              <a:rPr b="1" lang="en-US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ຕໍ່ລວງຍາວ</a:t>
            </a:r>
            <a:r>
              <a:rPr b="1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1" lang="en-US" sz="32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ງສູງ</a:t>
            </a:r>
            <a:r>
              <a:rPr b="1" lang="lo-LA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Saysettha OT"/>
                <a:ea typeface="Saysettha OT"/>
              </a:rPr>
              <a:t>(Weight-for-Height / Weight-for-Leng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12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ດັດສະນີ 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້ຳໜັກຕໍ່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ງ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ຍາວ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/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ລວງ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ູງ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ຕ່ຳ 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ຊີ້ບອກເຖິງ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ະພາບການຂາດສານອາຫານໃນໄລຍະ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ັ້ນ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ຫລື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 ຮຸນແຮງ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2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ຂາດສານອາຫານ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ຈ່ອຍ </a:t>
            </a:r>
            <a:r>
              <a:rPr b="1" lang="en-US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(Wasting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2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ປັນປະໂຫຍດ ໃນເວລາເຮົາກຳນົດອາຍຸເດັກນ້ອຍບໍ່ໄດ້ຊັດເຈນ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20000"/>
              </a:lnSpc>
              <a:spcBef>
                <a:spcPts val="18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ດັດສະນີ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ີ້ ເໝາະສົມກວດສອບເບິ່ງຜົນກະທົບໄລຍະສັ້ນ ເຊັ່ນ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: 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ການປ່ຽນແປງການສະໜອງອາຫານຕາມລະດູການ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1" lang="lo-LA" sz="2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ຫລື ການຂາດສານອາຫານໃນໄລຍະສັ້ນເນື່ອງຈາກການເຈັບປ່ວຍ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3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ຂໍ້ມູນການຂາດສານອາຫານ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1073160" y="1295280"/>
            <a:ext cx="7461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20000"/>
              </a:lnSpc>
              <a:spcBef>
                <a:spcPts val="1800"/>
              </a:spcBef>
              <a:buClr>
                <a:srgbClr val="00206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ໜຶ່ງໃນສາມ ຂອງເດັກນ້ອຍຕາຍໃນທົ່ວໂລກ ແມ່ນຍ້ອນການຂາດສານອາຫາ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990720" y="3139920"/>
          <a:ext cx="8001000" cy="2590920"/>
        </p:xfrm>
        <a:graphic>
          <a:graphicData uri="http://schemas.openxmlformats.org/drawingml/2006/table">
            <a:tbl>
              <a:tblPr/>
              <a:tblGrid>
                <a:gridCol w="2690640"/>
                <a:gridCol w="1728720"/>
                <a:gridCol w="1764000"/>
                <a:gridCol w="1817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22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ເຂ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eb80a"/>
                      </a:solidFill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solidFill>
                      <a:srgbClr val="8898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Gill Sans MT"/>
                        </a:rPr>
                        <a:t>Weight for 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solidFill>
                      <a:srgbClr val="8898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Gill Sans MT"/>
                        </a:rPr>
                        <a:t>Height for 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solidFill>
                      <a:srgbClr val="8898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Gill Sans MT"/>
                        </a:rPr>
                        <a:t>Weight for heigh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eb80a"/>
                      </a:solidFill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solidFill>
                      <a:srgbClr val="8898c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ຕົວເມືອ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eb80a"/>
                      </a:solidFill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5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5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eb80a"/>
                      </a:solidFill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ຊົນນະບົດມີທາງເຂົ້າເຖິ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eb80a"/>
                      </a:solidFill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3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4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eb80a"/>
                      </a:solidFill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002060"/>
                          </a:solidFill>
                          <a:latin typeface="Saysettha OT"/>
                          <a:cs typeface="Saysettha OT"/>
                        </a:rPr>
                        <a:t>ຊົນນະບົດບໍ່ມີທາງເຂົ້າເຖິ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eb80a"/>
                      </a:solidFill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4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45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7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eb80a"/>
                      </a:solidFill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c00000"/>
                          </a:solidFill>
                          <a:latin typeface="Saysettha OT"/>
                          <a:cs typeface="Saysettha OT"/>
                        </a:rPr>
                        <a:t>ທັງໝົ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eb80a"/>
                      </a:solidFill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Saysettha OT"/>
                          <a:ea typeface="Saysettha OT"/>
                        </a:rPr>
                        <a:t>37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Saysettha OT"/>
                          <a:ea typeface="Saysettha OT"/>
                        </a:rPr>
                        <a:t>4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Saysettha OT"/>
                          <a:ea typeface="Saysettha OT"/>
                        </a:rPr>
                        <a:t>6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eb80a"/>
                      </a:solidFill>
                    </a:lnR>
                    <a:lnT w="4320">
                      <a:solidFill>
                        <a:srgbClr val="feb80a"/>
                      </a:solidFill>
                    </a:lnT>
                    <a:lnB w="4320">
                      <a:solidFill>
                        <a:srgbClr val="feb80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2" name="Rectangle 5"/>
          <p:cNvSpPr/>
          <p:nvPr/>
        </p:nvSpPr>
        <p:spPr>
          <a:xfrm>
            <a:off x="990720" y="2666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ະພາບຂອງເດັກຂາດສານອາຫານ ໃນ ສປປ ລາວ </a:t>
            </a:r>
            <a:r>
              <a:rPr b="0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– </a:t>
            </a:r>
            <a:r>
              <a:rPr b="0" lang="en-US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2006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8"/>
          <p:cNvSpPr/>
          <p:nvPr/>
        </p:nvSpPr>
        <p:spPr>
          <a:xfrm>
            <a:off x="838080" y="62118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Saysettha OT"/>
                <a:ea typeface="Saysettha OT"/>
              </a:rPr>
              <a:t>* </a:t>
            </a:r>
            <a:r>
              <a:rPr b="1" i="1" lang="lo-LA" sz="1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ປີເຊັນການຂາດສານອາຫານປານກາງ         ແຫຼ່ງ</a:t>
            </a:r>
            <a:r>
              <a:rPr b="1" i="1" lang="en-US" sz="1800" spc="-1" strike="noStrike">
                <a:solidFill>
                  <a:srgbClr val="002060"/>
                </a:solidFill>
                <a:latin typeface="Saysettha OT"/>
                <a:ea typeface="Saysettha OT"/>
              </a:rPr>
              <a:t>: MICS </a:t>
            </a:r>
            <a:r>
              <a:rPr b="1" i="1" lang="lo-LA" sz="18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ນ ສປປ ລາວ </a:t>
            </a:r>
            <a:r>
              <a:rPr b="1" i="1" lang="en-US" sz="1800" spc="-1" strike="noStrike">
                <a:solidFill>
                  <a:srgbClr val="002060"/>
                </a:solidFill>
                <a:latin typeface="Saysettha OT"/>
                <a:ea typeface="Saysettha OT"/>
              </a:rPr>
              <a:t>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19:38:17Z</dcterms:created>
  <dc:creator>eholmberg</dc:creator>
  <dc:description/>
  <dc:language>en-US</dc:language>
  <cp:lastModifiedBy>acer</cp:lastModifiedBy>
  <dcterms:modified xsi:type="dcterms:W3CDTF">2011-09-06T04:28:28Z</dcterms:modified>
  <cp:revision>121</cp:revision>
  <dc:subject/>
  <dc:title>Slide 1</dc:title>
</cp:coreProperties>
</file>